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2689-7D1E-43EF-B9C4-488D7F6A5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CC7C-CDE3-42B6-A0D7-25B580145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BAEE-8F4E-46DF-84BB-63E3F1DD1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0EBA-4ECE-4E6C-B58A-2E65D80D5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34415-DE8D-441A-ABC8-2A94838EC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48449-5485-41F5-9AC8-9C83C035D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A9FC9-934C-4E33-B27A-872AE9407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AB093-644F-4560-93CF-90875550E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A17EF-6522-4168-B26C-DF18047AC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5861D-D7F4-4EAB-BBF8-FE7A4D372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ADEA6-3118-46AC-B67D-79B73621F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82FD-A28E-487B-8A84-C434D53ED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DE7BF-4F8A-41B5-ADE7-F7D4ECF34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8097A-C7BE-41CF-85AF-A2BB2E6E7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6ECBE-8CD7-46E9-98D0-32EFBE74F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C7ADE-EC44-4E45-BB07-54D34AC0E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A8A28-06FB-4499-B4BA-FDD0D9F95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EB72E2-36AC-4054-AD7C-57A16222E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7DE273-942B-4140-A5C3-FC183483E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E369F6-29E7-44B8-AECB-75B429D43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460687-4B51-4BD4-BA93-07A0BF456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F91D22-0A35-4669-9A17-46C69D722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ACDB-2996-4D64-AD58-23B82A350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0F970B-E951-45F5-A53F-5F22A15FB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652C54-C7D9-4D7F-B2DC-8F315CCB5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A7C4E8-C941-415E-AA5B-DE30CCD26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5D56AD-D322-40BE-AEB1-581FF09FE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A7228D-B232-4B9B-8110-FEAEEBBD9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07307F-3395-4BC5-BA79-B3589210E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CC9477-AF65-4184-B8CD-DCB4797A4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E08E4-E7D7-4F41-8B85-E899CBC65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2718D-3145-4E4C-A7A3-3DA8A34B6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889DB-43BA-4F76-B825-5918BF0CB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77B9-432E-43A5-9F25-6B9440E8E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575D4-B5B9-4515-A5DB-08A882830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13FB5-76A1-43E9-8590-8216AD491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E3EC4-7ADF-4E3C-9430-A31A73E0E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BAC2D-146B-4468-A504-25FD5EC32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3FAAD-0AD6-4817-BBC9-6126ADF84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7BDBB-70C8-4A83-94C1-9AA617203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D657E-7975-4D45-99F9-77C51CB4F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E4EAC-F4C2-4785-B01D-D886AA417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CDA1E-5FDF-4A86-9A2E-254B2A450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6ABB-E618-4F03-80BF-BECDAD05A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24A3-2ADB-44A1-AA63-23089CA62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AB84-F3E1-4B0B-B8D1-11827D4A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95C7-05B2-4711-9DB1-C7F4F5496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BA4B-A98A-4BA7-9842-45B75C3AF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771F51-1C9D-41D1-9E12-A5F55B71C048}" type="datetime">
              <a:rPr b="0" lang="en-US" sz="800" spc="-1" strike="noStrike">
                <a:solidFill>
                  <a:srgbClr val="438086"/>
                </a:solidFill>
                <a:latin typeface="Georgia"/>
              </a:rPr>
              <a:t>07/28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E441C3-FAF7-457E-8204-7B5C4FAF67EC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D7F746-257D-44B1-BFBB-B3A297E13FF6}" type="datetime">
              <a:rPr b="0" lang="en-US" sz="800" spc="-1" strike="noStrike">
                <a:solidFill>
                  <a:srgbClr val="438086"/>
                </a:solidFill>
                <a:latin typeface="Georgia"/>
              </a:rPr>
              <a:t>07/28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B50F53-9127-4935-A3DA-3D2511EDD8F5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80A54E-0B54-41C8-AF6A-723B64B6B4CA}" type="datetime">
              <a:rPr b="0" lang="en-US" sz="800" spc="-1" strike="noStrike">
                <a:solidFill>
                  <a:srgbClr val="438086"/>
                </a:solidFill>
                <a:latin typeface="Georgia"/>
              </a:rPr>
              <a:t>07/28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3EE228-139A-4F07-B52E-5EA04C332128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7A9364-3791-4CB2-8E3A-B8469BA06048}" type="datetime">
              <a:rPr b="0" lang="en-US" sz="800" spc="-1" strike="noStrike">
                <a:solidFill>
                  <a:srgbClr val="438086"/>
                </a:solidFill>
                <a:latin typeface="Georgia"/>
              </a:rPr>
              <a:t>07/28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7E332E-4825-4B3B-8278-3F484EE6BA25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Alternative Energy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World Geograph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Spring 2011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nergy Resource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67652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300"/>
              </a:spcBef>
              <a:spcAft>
                <a:spcPts val="1199"/>
              </a:spcAft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ssil Fuels (oil, coal, natural gas) are considered non-renewable resource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spcAft>
                <a:spcPts val="1199"/>
              </a:spcAft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ventually, they will run out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spcAft>
                <a:spcPts val="1199"/>
              </a:spcAft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ssuming our demand does not change, new sources of energy will need to be found and implemented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44040" indent="-241200">
              <a:spcBef>
                <a:spcPts val="300"/>
              </a:spcBef>
              <a:spcAft>
                <a:spcPts val="1199"/>
              </a:spcAft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In fact, demand is expected to increase due to population growth and the modernization of developing countries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World Energy Reserve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19" name="Content Placeholder 3" descr="end-of-fossil-fuels-graph.jpg"/>
          <p:cNvPicPr/>
          <p:nvPr/>
        </p:nvPicPr>
        <p:blipFill>
          <a:blip r:embed="rId1"/>
          <a:srcRect l="-12276" t="0" r="-12276" b="0"/>
          <a:stretch/>
        </p:blipFill>
        <p:spPr>
          <a:xfrm>
            <a:off x="-176040" y="1676520"/>
            <a:ext cx="932004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Alternative Energy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lternative energy refers to energy sources that have fewer undesired consequences than fossil fuels (oil, coal, gasoline) do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y are also renewable and considered </a:t>
            </a:r>
            <a:r>
              <a:rPr b="0" lang="ja-JP" sz="28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ree.</a:t>
            </a:r>
            <a:r>
              <a:rPr b="0" lang="ja-JP" sz="2800" spc="-1" strike="noStrike">
                <a:solidFill>
                  <a:srgbClr val="000000"/>
                </a:solidFill>
                <a:latin typeface="Georgia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xamples include wind, solar and hydropower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47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Presentation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You and your partner(s) will be researching one type of alternative energy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You will create a presentation using PowerPoint, Google Slides or Notebook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You may use any of the information found on my website, as well as clip art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Schools.clipart.com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Name and password are nems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Include citations for any pictures you use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Requirement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350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 your presentation, you must include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04440" indent="-2264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n explanation of how your type of energy work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04440" indent="-2264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How it is renewed?  Where does the energy come from?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04440" indent="-2264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Positives: why would this be good to use?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04440" indent="-2264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Negatives: what would be problems with using this type of energy?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35520" indent="-2350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You will be showing your presentation to your classmates.  Make sure it is complete and easy to understan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3T16:31:17Z</dcterms:created>
  <dc:creator>CCPS</dc:creator>
  <dc:description/>
  <dc:language>en-US</dc:language>
  <cp:lastModifiedBy>Cecil County</cp:lastModifiedBy>
  <dcterms:modified xsi:type="dcterms:W3CDTF">2015-04-17T16:20:23Z</dcterms:modified>
  <cp:revision>4</cp:revision>
  <dc:subject/>
  <dc:title>Alternative Energy</dc:title>
</cp:coreProperties>
</file>